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12.wmf" ContentType="image/x-wmf"/>
  <Override PartName="/ppt/media/image54.png" ContentType="image/png"/>
  <Override PartName="/ppt/media/image48.png" ContentType="image/png"/>
  <Override PartName="/ppt/media/image11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63.wmf" ContentType="image/x-wmf"/>
  <Override PartName="/ppt/media/image23.png" ContentType="image/png"/>
  <Override PartName="/ppt/media/image17.png" ContentType="image/png"/>
  <Override PartName="/ppt/media/image25.png" ContentType="image/png"/>
  <Override PartName="/ppt/media/image62.png" ContentType="image/png"/>
  <Override PartName="/ppt/media/image61.wmf" ContentType="image/x-wmf"/>
  <Override PartName="/ppt/media/image58.png" ContentType="image/png"/>
  <Override PartName="/ppt/media/image21.png" ContentType="image/png"/>
  <Override PartName="/ppt/media/image20.png" ContentType="image/png"/>
  <Override PartName="/ppt/media/image22.png" ContentType="image/png"/>
  <Override PartName="/ppt/media/image59.png" ContentType="image/png"/>
  <Override PartName="/ppt/media/image60.png" ContentType="image/png"/>
  <Override PartName="/ppt/media/image24.png" ContentType="image/png"/>
  <Override PartName="/ppt/media/image18.png" ContentType="image/png"/>
  <Override PartName="/ppt/media/image6.png" ContentType="image/png"/>
  <Override PartName="/ppt/media/image9.jpeg" ContentType="image/jpeg"/>
  <Override PartName="/ppt/media/image36.png" ContentType="image/png"/>
  <Override PartName="/ppt/media/image57.png" ContentType="image/png"/>
  <Override PartName="/ppt/media/image14.wmf" ContentType="image/x-wmf"/>
  <Override PartName="/ppt/media/image51.wmf" ContentType="image/x-wmf"/>
  <Override PartName="/ppt/media/image29.png" ContentType="image/png"/>
  <Override PartName="/ppt/media/image31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7.png" ContentType="image/png"/>
  <Override PartName="/ppt/media/image41.wmf" ContentType="image/x-wmf"/>
  <Override PartName="/ppt/media/image19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.png" ContentType="image/png"/>
  <Override PartName="/ppt/media/image13.png" ContentType="image/png"/>
  <Override PartName="/ppt/media/image53.wmf" ContentType="image/x-wmf"/>
  <Override PartName="/ppt/media/image5.wmf" ContentType="image/x-wmf"/>
  <Override PartName="/ppt/media/image10.png" ContentType="image/png"/>
  <Override PartName="/ppt/media/image50.wmf" ContentType="image/x-wmf"/>
  <Override PartName="/ppt/media/image28.png" ContentType="image/png"/>
  <Override PartName="/ppt/media/image30.png" ContentType="image/png"/>
  <Override PartName="/ppt/media/image35.png" ContentType="image/png"/>
  <Override PartName="/ppt/media/image39.wmf" ContentType="image/x-wmf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wmf" ContentType="image/x-wmf"/>
  <Override PartName="/ppt/media/image47.wmf" ContentType="image/x-wmf"/>
  <Override PartName="/ppt/media/image49.png" ContentType="image/png"/>
  <Override PartName="/ppt/media/image5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8065-3985-49AD-BAFD-55DC4F3A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9BB-D85B-42DE-8873-01515BA1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CEDC-89A6-48DA-8A4D-18FCE103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3F24-1207-431D-ABD6-DEB2550E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AE2C-6D9D-4001-BB26-DA7C71BD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E6DB-5BD3-4E59-91C7-324D9478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364B-3612-47EB-8836-2EC8E337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6174-5359-433C-9BC7-883D1D71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44FD-C952-45AF-ADC9-438E4701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FF1A-3562-4600-BCD7-6EBF245C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90D8-5758-4BCB-82E8-9474A7D7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65AB-9C9B-41D8-B5CE-A406C30B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DDF8-79E3-4C82-9E78-570BEC16C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9.wmf"/><Relationship Id="rId5" Type="http://schemas.openxmlformats.org/officeDocument/2006/relationships/image" Target="../media/image40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1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52.png"/><Relationship Id="rId4" Type="http://schemas.openxmlformats.org/officeDocument/2006/relationships/image" Target="../media/image50.wmf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image" Target="../media/image54.png"/><Relationship Id="rId4" Type="http://schemas.openxmlformats.org/officeDocument/2006/relationships/image" Target="../media/image50.wmf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7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image" Target="../media/image59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1.wmf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3.wmf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981080"/>
            <a:ext cx="83822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2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perties of Quadratic Fun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833940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7543800" cy="534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04920" y="16002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graphing, locate the vertex and axis of symmetry of the parabola defined by                               .  Does it open up or dow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819520" y="1981080"/>
          <a:ext cx="236196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981080"/>
                    <a:ext cx="23619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2362320" y="2743200"/>
            <a:ext cx="4071960" cy="10922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graphicFrame>
        <p:nvGraphicFramePr>
          <p:cNvPr id="95" name=""/>
          <p:cNvGraphicFramePr/>
          <p:nvPr/>
        </p:nvGraphicFramePr>
        <p:xfrm>
          <a:off x="2971800" y="4343400"/>
          <a:ext cx="2590920" cy="1012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71800" y="4343400"/>
                    <a:ext cx="259092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2920" y="3038400"/>
            <a:ext cx="88581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2933640" cy="3714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49520" y="1962000"/>
            <a:ext cx="2341800" cy="3657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410160" y="1905120"/>
            <a:ext cx="2733840" cy="3657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828800" y="457200"/>
            <a:ext cx="541008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04920" y="1752480"/>
          <a:ext cx="819468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81946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514600" y="3200400"/>
            <a:ext cx="3809880" cy="345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2619360" cy="561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244440" y="990720"/>
            <a:ext cx="88995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68200" y="1752480"/>
          <a:ext cx="7351920" cy="11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1752480"/>
                    <a:ext cx="7351920" cy="11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743200" y="2952720"/>
            <a:ext cx="3181320" cy="3905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44440" y="838080"/>
            <a:ext cx="8899560" cy="765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80880" y="152280"/>
            <a:ext cx="26193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52440" y="1676520"/>
          <a:ext cx="7294680" cy="11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1676520"/>
                    <a:ext cx="729468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819520" y="3124080"/>
            <a:ext cx="3733560" cy="3598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44440" y="838080"/>
            <a:ext cx="8899560" cy="765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80880" y="152280"/>
            <a:ext cx="261936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2500200"/>
            <a:ext cx="8686800" cy="18576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915400" cy="87300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457200" y="1828800"/>
            <a:ext cx="7696080" cy="1184400"/>
            <a:chOff x="457200" y="1828800"/>
            <a:chExt cx="7696080" cy="1184400"/>
          </a:xfrm>
        </p:grpSpPr>
        <p:pic>
          <p:nvPicPr>
            <p:cNvPr id="122" name="" descr=""/>
            <p:cNvPicPr/>
            <p:nvPr/>
          </p:nvPicPr>
          <p:blipFill>
            <a:blip r:embed="rId3"/>
            <a:srcRect l="0" t="0" r="27966" b="43417"/>
            <a:stretch/>
          </p:blipFill>
          <p:spPr>
            <a:xfrm>
              <a:off x="457200" y="1828800"/>
              <a:ext cx="7696080" cy="45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" name=""/>
            <p:cNvGrpSpPr/>
            <p:nvPr/>
          </p:nvGrpSpPr>
          <p:grpSpPr>
            <a:xfrm>
              <a:off x="457200" y="2282760"/>
              <a:ext cx="4210200" cy="730440"/>
              <a:chOff x="457200" y="2282760"/>
              <a:chExt cx="4210200" cy="730440"/>
            </a:xfrm>
          </p:grpSpPr>
          <p:pic>
            <p:nvPicPr>
              <p:cNvPr id="124" name="" descr=""/>
              <p:cNvPicPr/>
              <p:nvPr/>
            </p:nvPicPr>
            <p:blipFill>
              <a:blip r:embed="rId4"/>
              <a:srcRect l="71430" t="0" r="0" b="10874"/>
              <a:stretch/>
            </p:blipFill>
            <p:spPr>
              <a:xfrm>
                <a:off x="457200" y="2282760"/>
                <a:ext cx="3124080" cy="73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" descr=""/>
              <p:cNvPicPr/>
              <p:nvPr/>
            </p:nvPicPr>
            <p:blipFill>
              <a:blip r:embed="rId5"/>
              <a:srcRect l="0" t="58136" r="89567" b="-4583"/>
              <a:stretch/>
            </p:blipFill>
            <p:spPr>
              <a:xfrm>
                <a:off x="3524400" y="2390760"/>
                <a:ext cx="1143000" cy="380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2057400" y="3327480"/>
            <a:ext cx="3962520" cy="3530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rcRect l="0" t="11923" r="0" b="0"/>
          <a:stretch/>
        </p:blipFill>
        <p:spPr>
          <a:xfrm>
            <a:off x="380880" y="2971800"/>
            <a:ext cx="7925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876920" cy="3036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3920" y="76320"/>
            <a:ext cx="8920080" cy="2143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943600" y="1676520"/>
            <a:ext cx="320040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52280" y="5638680"/>
            <a:ext cx="8893440" cy="963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648320" y="2819520"/>
            <a:ext cx="4495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7240" y="1066680"/>
            <a:ext cx="901044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67274" t="0" r="0" b="10628"/>
          <a:stretch/>
        </p:blipFill>
        <p:spPr>
          <a:xfrm>
            <a:off x="1019160" y="3505320"/>
            <a:ext cx="3781440" cy="533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rcRect l="0" t="0" r="32729" b="10628"/>
          <a:stretch/>
        </p:blipFill>
        <p:spPr>
          <a:xfrm>
            <a:off x="380880" y="2971800"/>
            <a:ext cx="77724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9115560" cy="37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1143000" y="2133720"/>
          <a:ext cx="6095880" cy="158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133720"/>
                    <a:ext cx="609588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2514600" y="4800600"/>
            <a:ext cx="3733920" cy="100188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35620" r="0" b="0"/>
          <a:stretch/>
        </p:blipFill>
        <p:spPr>
          <a:xfrm>
            <a:off x="133200" y="228600"/>
            <a:ext cx="9010800" cy="1790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0" t="56118" r="0" b="0"/>
          <a:stretch/>
        </p:blipFill>
        <p:spPr>
          <a:xfrm>
            <a:off x="2971800" y="5334120"/>
            <a:ext cx="3048120" cy="417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600200" y="2743200"/>
            <a:ext cx="556272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57120" y="3152880"/>
            <a:ext cx="842976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4876920"/>
            <a:ext cx="7848720" cy="869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362320" y="533520"/>
            <a:ext cx="457812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2039" b="-4279"/>
          <a:stretch/>
        </p:blipFill>
        <p:spPr>
          <a:xfrm>
            <a:off x="2133720" y="5257800"/>
            <a:ext cx="5029200" cy="762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90920" y="228600"/>
            <a:ext cx="448920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89120" y="304920"/>
            <a:ext cx="57657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8610480" cy="38232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228600" y="1371600"/>
            <a:ext cx="6095880" cy="900000"/>
            <a:chOff x="228600" y="1371600"/>
            <a:chExt cx="6095880" cy="90000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228600" y="1371600"/>
              <a:ext cx="609588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290520" y="1828800"/>
              <a:ext cx="57150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"/>
          <p:cNvGrpSpPr/>
          <p:nvPr/>
        </p:nvGrpSpPr>
        <p:grpSpPr>
          <a:xfrm>
            <a:off x="228600" y="2305080"/>
            <a:ext cx="2552760" cy="2190600"/>
            <a:chOff x="228600" y="2305080"/>
            <a:chExt cx="2552760" cy="2190600"/>
          </a:xfrm>
        </p:grpSpPr>
        <p:pic>
          <p:nvPicPr>
            <p:cNvPr id="63" name="" descr=""/>
            <p:cNvPicPr/>
            <p:nvPr/>
          </p:nvPicPr>
          <p:blipFill>
            <a:blip r:embed="rId5"/>
            <a:stretch/>
          </p:blipFill>
          <p:spPr>
            <a:xfrm>
              <a:off x="228600" y="2305080"/>
              <a:ext cx="2552760" cy="21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1600200" y="3886200"/>
              <a:ext cx="914400" cy="48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" name=""/>
          <p:cNvGrpSpPr/>
          <p:nvPr/>
        </p:nvGrpSpPr>
        <p:grpSpPr>
          <a:xfrm>
            <a:off x="0" y="4695840"/>
            <a:ext cx="4114800" cy="2162160"/>
            <a:chOff x="0" y="4695840"/>
            <a:chExt cx="4114800" cy="2162160"/>
          </a:xfrm>
        </p:grpSpPr>
        <p:pic>
          <p:nvPicPr>
            <p:cNvPr id="66" name="" descr=""/>
            <p:cNvPicPr/>
            <p:nvPr/>
          </p:nvPicPr>
          <p:blipFill>
            <a:blip r:embed="rId7"/>
            <a:stretch/>
          </p:blipFill>
          <p:spPr>
            <a:xfrm>
              <a:off x="0" y="5486400"/>
              <a:ext cx="94284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" name=""/>
            <p:cNvGrpSpPr/>
            <p:nvPr/>
          </p:nvGrpSpPr>
          <p:grpSpPr>
            <a:xfrm>
              <a:off x="914400" y="4695840"/>
              <a:ext cx="3200400" cy="2162160"/>
              <a:chOff x="914400" y="4695840"/>
              <a:chExt cx="3200400" cy="2162160"/>
            </a:xfrm>
          </p:grpSpPr>
          <p:pic>
            <p:nvPicPr>
              <p:cNvPr id="6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4695840"/>
                <a:ext cx="2895480" cy="216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90920" y="6248520"/>
                <a:ext cx="1523880" cy="480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0" name=""/>
          <p:cNvGrpSpPr/>
          <p:nvPr/>
        </p:nvGrpSpPr>
        <p:grpSpPr>
          <a:xfrm>
            <a:off x="3962520" y="4282920"/>
            <a:ext cx="5029200" cy="2575080"/>
            <a:chOff x="3962520" y="4282920"/>
            <a:chExt cx="5029200" cy="2575080"/>
          </a:xfrm>
        </p:grpSpPr>
        <p:grpSp>
          <p:nvGrpSpPr>
            <p:cNvPr id="71" name=""/>
            <p:cNvGrpSpPr/>
            <p:nvPr/>
          </p:nvGrpSpPr>
          <p:grpSpPr>
            <a:xfrm>
              <a:off x="5181480" y="4282920"/>
              <a:ext cx="3810240" cy="2575080"/>
              <a:chOff x="5181480" y="4282920"/>
              <a:chExt cx="3810240" cy="2575080"/>
            </a:xfrm>
          </p:grpSpPr>
          <p:pic>
            <p:nvPicPr>
              <p:cNvPr id="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181480" y="4282920"/>
                <a:ext cx="2971800" cy="257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34320" y="6019920"/>
                <a:ext cx="2057400" cy="511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4" name="" descr=""/>
            <p:cNvPicPr/>
            <p:nvPr/>
          </p:nvPicPr>
          <p:blipFill>
            <a:blip r:embed="rId12"/>
            <a:stretch/>
          </p:blipFill>
          <p:spPr>
            <a:xfrm>
              <a:off x="3962520" y="5105520"/>
              <a:ext cx="1019160" cy="10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2514600" y="2209680"/>
            <a:ext cx="3295800" cy="2324160"/>
            <a:chOff x="2514600" y="2209680"/>
            <a:chExt cx="3295800" cy="2324160"/>
          </a:xfrm>
        </p:grpSpPr>
        <p:grpSp>
          <p:nvGrpSpPr>
            <p:cNvPr id="76" name=""/>
            <p:cNvGrpSpPr/>
            <p:nvPr/>
          </p:nvGrpSpPr>
          <p:grpSpPr>
            <a:xfrm>
              <a:off x="3124080" y="2362320"/>
              <a:ext cx="2686320" cy="2171520"/>
              <a:chOff x="3124080" y="2362320"/>
              <a:chExt cx="2686320" cy="2171520"/>
            </a:xfrm>
          </p:grpSpPr>
          <p:pic>
            <p:nvPicPr>
              <p:cNvPr id="7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124080" y="2362320"/>
                <a:ext cx="2686320" cy="21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4648320" y="3962520"/>
                <a:ext cx="1066680" cy="520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9" name="" descr=""/>
            <p:cNvPicPr/>
            <p:nvPr/>
          </p:nvPicPr>
          <p:blipFill>
            <a:blip r:embed="rId15"/>
            <a:stretch/>
          </p:blipFill>
          <p:spPr>
            <a:xfrm>
              <a:off x="2514600" y="2209680"/>
              <a:ext cx="942840" cy="107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"/>
          <p:cNvGrpSpPr/>
          <p:nvPr/>
        </p:nvGrpSpPr>
        <p:grpSpPr>
          <a:xfrm>
            <a:off x="5257800" y="2286000"/>
            <a:ext cx="3581280" cy="558720"/>
            <a:chOff x="5257800" y="2286000"/>
            <a:chExt cx="3581280" cy="558720"/>
          </a:xfrm>
        </p:grpSpPr>
        <p:pic>
          <p:nvPicPr>
            <p:cNvPr id="81" name="" descr=""/>
            <p:cNvPicPr/>
            <p:nvPr/>
          </p:nvPicPr>
          <p:blipFill>
            <a:blip r:embed="rId16"/>
            <a:stretch/>
          </p:blipFill>
          <p:spPr>
            <a:xfrm>
              <a:off x="5257800" y="2287440"/>
              <a:ext cx="914400" cy="5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17"/>
            <a:stretch/>
          </p:blipFill>
          <p:spPr>
            <a:xfrm>
              <a:off x="6172200" y="2286000"/>
              <a:ext cx="2666880" cy="54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6934320" cy="107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7772400" cy="1074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04920" y="1447920"/>
            <a:ext cx="852300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1:58:52Z</dcterms:created>
  <dc:creator>Harry S. Mills</dc:creator>
  <dc:description/>
  <dc:language>en-US</dc:language>
  <cp:lastModifiedBy>Harry S. Mills</cp:lastModifiedBy>
  <dcterms:modified xsi:type="dcterms:W3CDTF">2007-12-23T22:02:26Z</dcterms:modified>
  <cp:revision>4</cp:revision>
  <dc:subject/>
  <dc:title>Slide 1</dc:title>
</cp:coreProperties>
</file>